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DE7-87F2-4B3D-BB5B-6CB1B952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741-365B-468D-88D6-53C7D5C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A26-36DF-4FFC-A2BE-27A459A8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39D-5292-42DA-A33E-4FDFB709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88A-2660-4C6B-A59E-2A702659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939-74DF-4F5B-9847-7D3A6B4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D4F-EB88-4E9C-8B53-ACF8FC7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C9D4-7036-4FB0-8039-421AA97B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A8C-4F3F-4C9C-B16F-70F13328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BC6D-547E-4B48-B69D-1621D96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9F5-DD03-4CB9-A5E1-075107E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3C3-5318-4F3A-B67F-38273B9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C26-6B3A-4C07-A89E-747F6A5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209-EE60-484C-BFC3-6E14A68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747-7485-47C4-BED5-127277AC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86FC-8BDB-4CDA-A4EB-04F367B0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426B-A2CA-4DEC-8797-34D0AC8F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7C2-B9A5-4201-9F59-0D2973F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C3B-DA67-422E-B26F-6207877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FE5-0BBB-4A5F-ABAA-0337C27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7D8-3CF6-4D30-BD63-944954D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488-5D07-457C-BE43-C9AEC1F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BE3-FDD4-4951-B1E2-95D80A1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C91-2548-4BC5-AB16-798EF6B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92B-13C9-44E8-B718-A088D953C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441-F11A-4819-B2AB-F17CD73C6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ltavista.com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dogpile.com/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j0309261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16256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2280" y="1695600"/>
            <a:ext cx="665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ing Search Eng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55627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Becoming a Serious Sur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66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83966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3962520" cy="2077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432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rs. Keegan’s Least Favorite Search Eng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n’t use Ask Je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i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give great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t trap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poor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jjeeves1" descr="Jeeves"/>
          <p:cNvPicPr/>
          <p:nvPr/>
        </p:nvPicPr>
        <p:blipFill>
          <a:blip r:embed="rId1"/>
          <a:stretch/>
        </p:blipFill>
        <p:spPr>
          <a:xfrm>
            <a:off x="2666880" y="1600200"/>
            <a:ext cx="211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004set2_middle_bottom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676520"/>
            <a:ext cx="7543800" cy="4294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ther types of sources are bet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Engines should be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encyclopedias, books, and other online sources first: http://www.cbsd.org/library/libresources2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Eng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23920" y="1971360"/>
            <a:ext cx="36324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to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you type in keywords and get millions of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engine is not where you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480" y="2754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ogo" descr="Google"/>
          <p:cNvPicPr/>
          <p:nvPr/>
        </p:nvPicPr>
        <p:blipFill>
          <a:blip r:embed="rId1"/>
          <a:stretch/>
        </p:blipFill>
        <p:spPr>
          <a:xfrm>
            <a:off x="5410080" y="2362320"/>
            <a:ext cx="2338560" cy="931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91456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v3" descr="AltaVis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3200400"/>
            <a:ext cx="2274840" cy="879480"/>
          </a:xfrm>
          <a:prstGeom prst="rect">
            <a:avLst/>
          </a:prstGeom>
          <a:ln w="0">
            <a:noFill/>
          </a:ln>
        </p:spPr>
      </p:pic>
      <p:pic>
        <p:nvPicPr>
          <p:cNvPr id="104" name="idx_logo" descr="Dogpile Search. Good Dog. Great Results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4343400"/>
            <a:ext cx="2697120" cy="8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9404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460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mamma" descr=""/>
          <p:cNvPicPr/>
          <p:nvPr/>
        </p:nvPicPr>
        <p:blipFill>
          <a:blip r:embed="rId6"/>
          <a:stretch/>
        </p:blipFill>
        <p:spPr>
          <a:xfrm>
            <a:off x="5486400" y="5334120"/>
            <a:ext cx="2438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ey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at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oking for information about what Asian tigers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sian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sian tigers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igereating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1981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lsmith3_sm" descr="Members of the Historic Foodways department prepare food in the kitchen of the Governor's Palace."/>
          <p:cNvPicPr/>
          <p:nvPr/>
        </p:nvPicPr>
        <p:blipFill>
          <a:blip r:embed="rId1"/>
          <a:stretch/>
        </p:blipFill>
        <p:spPr>
          <a:xfrm>
            <a:off x="5065560" y="1905120"/>
            <a:ext cx="250524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find information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smiths in colonial times for Colonial Day, which would you type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Coloni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Blacksmiths colon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What did colonial  blacksmith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Blackmi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rver" descr="George Washington Carve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400040"/>
            <a:ext cx="7620120" cy="4502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en using search engines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ay I type in George Washington Car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ght get hundreds of thousands of mat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matches that contain “George,” “Washington,” “George Washington,” “George Washington Carver,” and “Carv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mmar" descr="[Logo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523880"/>
            <a:ext cx="7848720" cy="4496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icks of the Tr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arch engines let you use “quotation marks,” so that you are only looking for all three wor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Car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24080" y="27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*More tricks 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want information on the dog called the boxer or boxers use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r*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ive you boxer and box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blem could you run into for this 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boxer_hostetter3" descr="Boxer, Greenfield Puppies, Pennsylvania"/>
          <p:cNvPicPr/>
          <p:nvPr/>
        </p:nvPicPr>
        <p:blipFill>
          <a:blip r:embed="rId1"/>
          <a:stretch/>
        </p:blipFill>
        <p:spPr>
          <a:xfrm>
            <a:off x="4191120" y="2590920"/>
            <a:ext cx="175248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boxer_hostetter" descr="Boxer, Greenfield Puppies, Pennsylvania"/>
          <p:cNvPicPr/>
          <p:nvPr/>
        </p:nvPicPr>
        <p:blipFill>
          <a:blip r:embed="rId2"/>
          <a:stretch/>
        </p:blipFill>
        <p:spPr>
          <a:xfrm>
            <a:off x="1066680" y="2590920"/>
            <a:ext cx="18288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j030926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1523880"/>
            <a:ext cx="7238880" cy="4473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arch Engines aren’t all they are cracked up to be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urat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s created by kids and dummies: Look for an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ules fo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ightbulb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960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ys to help yourself when search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ways to narrow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google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nd be patien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be willing to admit that internet is not be the best option in all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22:37:50Z</dcterms:created>
  <dc:creator>Merck &amp; Co., Inc.</dc:creator>
  <dc:description/>
  <dc:language>en-US</dc:language>
  <cp:lastModifiedBy>MILL CREEK ELEMENTARY SCHOOL</cp:lastModifiedBy>
  <dcterms:modified xsi:type="dcterms:W3CDTF">2004-04-23T17:07:40Z</dcterms:modified>
  <cp:revision>12</cp:revision>
  <dc:subject/>
  <dc:title>Using the Internet</dc:title>
</cp:coreProperties>
</file>